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EF8-86B8-47A9-BCF3-4C09F324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23B-BDF7-4D58-8EB7-9456C556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5374-5802-4341-93A8-AAB4C924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0EF-D722-422A-BCC0-CF3FDA88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09F-4BFB-4F51-B8FB-50203B7A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2EC-CCCE-4A02-8342-8DB035EB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B7E-0D0E-47BC-88F7-13B1B2C4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710B-014D-4E59-A8E8-38DAB661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CD4-7235-4464-B1EC-03C72E7F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2475-4183-4E2B-9D64-CA2A08F9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705-F22F-45EA-88D7-61D068DC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6EE8-1833-4A57-B0E3-DEEE2A30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5CCC-DC72-4B01-A299-4F8EEA4A3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tsalwaystougherinrussia2010.wikispaces.com/file/view/Culture+of+Russia+Part+2+P.1+2010.ppt" TargetMode="External"/><Relationship Id="rId2" Type="http://schemas.openxmlformats.org/officeDocument/2006/relationships/hyperlink" Target="http://itsalwaystougherinrussia2010.wikispaces.com/file/view/LANGUAGE+IN+RUSSIA.ppt" TargetMode="External"/><Relationship Id="rId3" Type="http://schemas.openxmlformats.org/officeDocument/2006/relationships/hyperlink" Target="http://itsalwaystougherinrussia2010.wikispaces.com/file/view/Holidays%2CReligion%2Cand+Folk+Stories+of+Russia+Period+1.ppt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cc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orte"/>
              </a:rPr>
              <a:t>Culture Of Russ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ow to Survive in a Russian Househ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92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42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D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Before m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e on time, no more than 15 minutes later than inv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outdoor shoes, you may be given slippers to 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ess well, clothes that you might wear to the office, dressing well shows respect for your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 to be treated with respect and ho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help to the hostess with the preparation or clearing when the meal is served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During m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Manners are necessary, the fork is held in the left hand and the knife in the right hand while 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ldest or most honored guest is served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begin eating until the host invites you to  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helpings are ur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n pour drinks for women next to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et up until you are invited to leave th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7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900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0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Gift Giving Etiqu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es and friends give gifts on birthdays, New Year, and Orthodox Christ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invited to dinner or meal, bring a small g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 guests bring f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ive yellow f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ive gifts to a baby until after the baby is born. It is bad luck to do so so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ns often protest against gifts out of politeness, but if you offer the gift again afterwards, it will usually be 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998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998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998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998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998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998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Delicacie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meals and delicacies often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cht – soup made from b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chi – a type of soup made of cabb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roshki – meat styled like turn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linners – a type of rounded pa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vier – delicacy – eggs from the Sturgeon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orte"/>
              </a:rPr>
              <a:t>Cred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Information by Liam Ro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Typed and Designed by Carmen Che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With help from Anthony F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With thanks to Mr. Griffith, and Wiki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Other Power poi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on the culture of Russi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By Carmen, Anthony, and Li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tsalwaystougherinrussia2010.wikispaces.com/file/view/Culture+of+Russia+Part+2+P.1+2010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tsalwaystougherinrussia2010.wikispaces.com/file/view/LANGUAGE+IN+RUSSIA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tsalwaystougherinrussia2010.wikispaces.com/file/view/Holidays%2CReligion%2Cand+Folk+Stories+of+Russia+Period+1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8:33Z</dcterms:created>
  <dc:creator>RoNald</dc:creator>
  <dc:description/>
  <dc:language>en-US</dc:language>
  <cp:lastModifiedBy> </cp:lastModifiedBy>
  <dcterms:modified xsi:type="dcterms:W3CDTF">2010-12-20T18:37:42Z</dcterms:modified>
  <cp:revision>17</cp:revision>
  <dc:subject/>
  <dc:title>Slide 1</dc:title>
</cp:coreProperties>
</file>